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2A13D-2FE9-43F3-92BD-86E099A488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76E21-3011-4432-9426-0CA96F7186A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927DB-4FB3-4FBF-80EA-201575D6528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51076E-2CF3-46E9-A762-41B631A74CD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EE80031-F8A0-42EC-8ED3-0ED139698DF4}" type="datetime">
              <a:rPr b="0" lang="fr-FR" sz="1200" spc="-1" strike="noStrike">
                <a:solidFill>
                  <a:srgbClr val="000000"/>
                </a:solidFill>
                <a:latin typeface="Times New Roman"/>
                <a:ea typeface="Arial"/>
              </a:rPr>
              <a:t>30/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D39D3-E6D9-41D5-92B3-81B525830C1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DD213-FB86-42D5-BE44-21D20DE3F91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2F443-5263-4483-B814-719BC121F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82FDA-8C8D-45BD-BEC5-3DB37E76A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C7CE8-8864-4DF2-BDE3-9280B8C22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81B73-3BFA-4D76-97FB-8DDC5CB62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6BD14-F87F-4844-AEE2-3F0C688C3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088E8-DEB8-4D90-A238-199CEFC84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9A484-DA46-4AFC-9A26-FDFC585B4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A2AE1-26BC-4095-B79E-AFC4A0718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B4AAE-4BFF-4B6A-AEDA-FF24A2462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8283B-4320-4A4E-9EC9-614972702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CA7BA-290D-497A-9526-051A16DA1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696A6-7401-4B6B-9EAB-76B6ADCCDA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ED21C-A39D-4227-87EB-E59817AAEE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9F298CD-48D4-451F-8FC1-AE064243391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824F6-129F-498F-A4D1-FD229CB279F2}"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CE182-090E-4B56-8944-EDB52D865EA4}"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